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4228-DCEC-4ACB-84C5-F306B57E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06C-7CCD-4182-A1F4-E5E57108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06A9-80FC-49F9-9DD4-8961CC81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235D-2997-4B19-B2BA-899DF8C3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F3E-25D1-46CB-A12F-12FC76DA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0B8-7109-4988-9D2E-32173B49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42B-E883-4EAA-990A-57BF3795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AB3C-DDC8-49FC-8447-50596E9A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5884-A19E-4119-9EB8-E66502B7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B18-BB87-4842-8FEF-F997EA26F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735-AA97-4B24-9D48-281BC1FB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478-8A89-4035-84E2-94C3F4BA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071E-2772-424A-B9C3-F869D60C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How Do Living Things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Grow and Change?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ynn Cut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pahannock Elementary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2666880"/>
            <a:ext cx="2614680" cy="1560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0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a living th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ving thing can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ving thing can g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ving thing can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ving thing can make more of its own kind (reprodu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ving thing has needs: air, water, food, and shel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, animals, and plants are living th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ypes of living things resemble their parents at bi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hings that resemble their parents at bir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ies look like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tens look like c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pies look like d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2590920"/>
            <a:ext cx="1454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15328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types of living thing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resemble their parents at bi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hings tha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emble their parents at birt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by jellyfis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 like adult jellyfis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erpillar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 like butterf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dpole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 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 like fro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W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066680"/>
          <a:ext cx="8229600" cy="5448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1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already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no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bout frogs and the way they grow and chang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o you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wa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 learn about frogs and their life cycle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did you 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ear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bout frogs and their life cycle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C Brainst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 a list of “froggy” wo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75120" y="27241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303720" y="2600280"/>
            <a:ext cx="210492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BC Brainst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is for…amphib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is for…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for…cro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is for…disgu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is for…eg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is for…fr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 is for…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is for…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is for…ins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is for…j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2:03:30Z</dcterms:created>
  <dc:creator>Valued Gateway Client</dc:creator>
  <dc:description/>
  <dc:language>en-US</dc:language>
  <cp:lastModifiedBy>Valued Gateway Client</cp:lastModifiedBy>
  <dcterms:modified xsi:type="dcterms:W3CDTF">2009-03-23T22:01:27Z</dcterms:modified>
  <cp:revision>11</cp:revision>
  <dc:subject/>
  <dc:title>How Do Animals Grow and Change?  </dc:title>
</cp:coreProperties>
</file>